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9144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07F-131A-42B3-B3DD-017B2BF8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999-02BA-42B2-A7C6-27C5AFE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71A-20E2-455C-9C24-ACBF4DF1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904-385E-43F1-B33A-A59F05BB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B47-BF3B-4C90-9B66-B1BC797B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C6D-DFED-4323-8BC9-87C4495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08A-C125-486C-B0EE-06692861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E7D-A9B3-45F5-BC58-FDE6FC8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812520"/>
            <a:ext cx="6153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C83-287F-4F0E-BEFE-146FFAD6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878-0F10-467A-9D16-2EE248A8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2CB-9636-46B5-9444-F4AB5F5B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584-1042-4438-B92E-A80C818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8331120"/>
            <a:ext cx="2292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B36-65FD-4833-B4B0-2E212C77CDB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5029200" y="57261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70102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7120" y="2800440"/>
            <a:ext cx="223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022720" y="42670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82564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68000" y="42670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68000" y="840096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010120" y="845820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6280" y="55497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440" y="41338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1920" y="1123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               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9400" y="11430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救援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1920" y="2509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編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85912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1920" y="3895560"/>
            <a:ext cx="2897280" cy="698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蒐整及研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600" y="393552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  廠  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911760"/>
            <a:ext cx="1258920" cy="576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 料 庫 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線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2558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51520" y="2521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戒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930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1520" y="3809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確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1920" y="528948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與指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600" y="531504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研院、環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 諮 詢 顧 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9400" y="52959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陸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小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51520" y="520056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1920" y="668340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成作業準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600" y="669456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央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29400" y="66801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中心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場指揮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8840" y="530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1920" y="80773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展開應援作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600" y="807408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9400" y="80643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任務部隊馳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部隊增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8840" y="80773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2960" y="812160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52960" y="84265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47680"/>
            <a:ext cx="4665600" cy="60948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超研澤粗楷"/>
              </a:rPr>
              <a:t>毒化災害應變作業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0600" y="2556000"/>
            <a:ext cx="1258920" cy="57600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保署、消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與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600" y="117648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9400" y="25272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   戰   區  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區責任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51520" y="42242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9280" y="70102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22360" y="6673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1800" y="6661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944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9440" y="61056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0360" y="3276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9440" y="75056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71600" y="563868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7640" y="56833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02:09Z</dcterms:created>
  <dc:creator>chem3-3</dc:creator>
  <dc:description/>
  <dc:language>en-US</dc:language>
  <cp:lastModifiedBy>chem3-7</cp:lastModifiedBy>
  <dcterms:modified xsi:type="dcterms:W3CDTF">2001-10-06T07:53:04Z</dcterms:modified>
  <cp:revision>15</cp:revision>
  <dc:subject/>
  <dc:title>PowerPoint 簡報</dc:title>
</cp:coreProperties>
</file>